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9d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BF77-8CA5-49A8-B918-9FFC2F594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CABF-08AA-4073-8699-77629D8CA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040" y="40248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672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312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56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304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312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56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3200" y="179280"/>
            <a:ext cx="829332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72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040" y="40248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672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312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356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304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312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356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3200" y="179280"/>
            <a:ext cx="829332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672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23508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208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2080" indent="-17172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2080" indent="-17172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76240" y="6446880"/>
            <a:ext cx="7846920" cy="11160"/>
          </a:xfrm>
          <a:prstGeom prst="line">
            <a:avLst/>
          </a:prstGeom>
          <a:ln w="19080">
            <a:solidFill>
              <a:srgbClr val="005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3560" y="987480"/>
            <a:ext cx="8126640" cy="144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51840" y="6453360"/>
            <a:ext cx="606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p</a:t>
            </a:r>
            <a:fld id="{DE0C8869-87DE-4977-B685-B9280ECB06B7}" type="slidenum">
              <a:rPr b="0" lang="en-US" sz="10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76212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68320" y="6445080"/>
            <a:ext cx="7629480" cy="12960"/>
          </a:xfrm>
          <a:prstGeom prst="line">
            <a:avLst/>
          </a:prstGeom>
          <a:ln w="19080">
            <a:solidFill>
              <a:srgbClr val="005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7040" y="141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9d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31920" y="6464160"/>
            <a:ext cx="690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9dc"/>
                </a:solidFill>
                <a:latin typeface="Arial"/>
              </a:rPr>
              <a:t>N  A  S 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01680" y="662040"/>
            <a:ext cx="6956640" cy="468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762120" cy="687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ctr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1160" algn="ctr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0360" algn="ctr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pg.gsfc.nasa.gov/" TargetMode="External"/><Relationship Id="rId2" Type="http://schemas.openxmlformats.org/officeDocument/2006/relationships/hyperlink" Target="mailto:richard.e.ullman@nasa.gov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9dc"/>
                </a:solidFill>
                <a:latin typeface="Arial"/>
              </a:rPr>
              <a:t>NASA’s Earth Science Data Systems Standards Process Experiences</a:t>
            </a:r>
            <a:endParaRPr b="1" lang="en-US" sz="36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828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 Ullman – NASA/GSF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g Tsou - SDSU co-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17,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Case History:  Hierarchical Data Format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tics of proposed standa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grown, not adopted as standard by any other external organization, single implementation (shared software libraries), completely new implementations from spec not necessarily exp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icult to get many technical spec reviews – only one implementation so not many people had experience with implementing HDF5 from the spe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only one NASA funded implementation of software libraries, recently Microsoft decided to implement HDF5 in future IE version.  This was not anticipated.  So accurate spec is still impor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returned reviews were about usability of HDF5 and not about the technical spec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users are exposed to HDF5 if they get data, should we ask for usability or usefulness review from us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: Still in review, status:  looking at operational read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Experience Summary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Readiness is more important than Operational Experien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else standards adoption becomes trailing 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” as a starting point, is those who have experience with implementation of a particular proposed standar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her than “science discipline community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types of reviews and all reviews can be done simultaneously – some reviewers wear more than one h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specification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fulness for purpose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read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work and LEADERSHIP are both importa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ies “own” what they have a hand in buil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ship is essential to provide moment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Focus Today:  Catalogs and Metadata Standards and Best Practices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and Background of SPG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Richard Ullm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ML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Brandon Badg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19115 Part 1 &amp; 2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David Dan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dds &amp; CF conventions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Ethan Dav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C CS/W &amp; ebRIM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Panagiotis (Peter) Vreta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 Experiences with CS/W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John Eva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MD DIF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Tyler Steve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- Future steps for NA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Contact Information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’s Standards Process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http://spg.gsfc.nasa.g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 Ullm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richard.e.ullman@nasa.g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31080" y="684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dc"/>
                </a:solidFill>
                <a:latin typeface="Arial"/>
              </a:rPr>
              <a:t>NASA’s Earth Science Data Systems Working Group, Standards Process Charter</a:t>
            </a:r>
            <a:endParaRPr b="1" lang="en-US" sz="28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’s Standards Process Group started work in January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ise NASA decision makers on standar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ize value of NASA’s investment in Earth science data systems b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ing the cost to use th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ing the opportunities for data interuse or data interoper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ing the integration of NASA data in “communities of interest”, such as discipline commun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Strengths, Weakness, Applicability and Limitations of particular standards in the context of readiness for operational use by NASA stakeholder communi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-funded researchers and data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s of NASA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Insights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ility does not require homogeneous systems, but rather coordination at the interfac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ommunities build, they own. Communities of practice have solu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ed practices that demonstrate benefit can grow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cessful practice in specific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er community ado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-recognized “standard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 data collections to multiple uses by describing data con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 the use of NASA data with other data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hance data 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distribution barr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OSDIS Evolution 2015 Vision Tenets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6760" y="1270080"/>
          <a:ext cx="8510400" cy="4630680"/>
        </p:xfrm>
        <a:graphic>
          <a:graphicData uri="http://schemas.openxmlformats.org/drawingml/2006/table">
            <a:tbl>
              <a:tblPr/>
              <a:tblGrid>
                <a:gridCol w="1990800"/>
                <a:gridCol w="651960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on Te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on 2015 Go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e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 will ensure safe stewardship of the data through its lifetim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OS archive holdings are regularly peer reviewed for scientific meri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S Data Interoper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nd metadata streams can be seamlessly combin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nd value added communities use EOS data interoperably with other relevant data and sys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and data are mobi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Data Access and Process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ccess latency is no longer an impedim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location of data storage is irrelev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ing data is based on common search engi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 invoked by machine-machine interfac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processing provides only the data needed, the way need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nterfaces and best practice standard protocols universally employ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Pedig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sms to collect and preserve the pedigree of derived data products are readily availa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ystems evolve into components that allow a fine-grained control over cost drive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Community 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t knowledge is readily accessible to enable researchers to understand and use the dat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feedback directly to those responsible for a given system elem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Curr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to all EOS data through services at least as rich as any contemporary science information syste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Standards We are Interested in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re components (technologies practices) that if documented and more widely used would promo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sharing or exchanging of data among distributed partners and us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systems development and sharing of software and technical experti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the cost of developing or maintaining a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ing the use of scientific data products and bringing more fun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ility and enhancing innovation, collaboration, and computing perform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dentified technologies/practices, Is there a community of use th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experience in implementation and has demonstrated operational read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leadership necessary to promote the advantage of wider u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The Request For Comment Process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ed after example of Internet “IETF RFC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ilored for responsiveness to NA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 standards are documented as specifications according to SPG guidelines and submitted by practitioners within the NASA commun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andards Process Group forms a Technical Working Group (TWG) to coordinate evalu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“implementation” of this specification mean in the context of NASA Earth Science Data Syste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nstitutes successful demonstrated  “operational readiness”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munity is invited by means of email announcement to comment on the specification and particularly to address questions formulated by the TW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G also identifies key stakeholders that are likely to have particular experience with the technology and solicits their opin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G reports to the SPG and the SPG makes recommendations for final status of the RF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73560" y="2777040"/>
            <a:ext cx="1236600" cy="415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posed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2300040" y="1719360"/>
            <a:ext cx="578520" cy="173520"/>
          </a:xfrm>
          <a:prstGeom prst="bentConnector3">
            <a:avLst>
              <a:gd name="adj1" fmla="val 511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9" idx="2"/>
            <a:endCxn id="110" idx="1"/>
          </p:cNvCxnSpPr>
          <p:nvPr/>
        </p:nvCxnSpPr>
        <p:spPr>
          <a:xfrm flipH="1" rot="16200000">
            <a:off x="5137920" y="4814640"/>
            <a:ext cx="1077120" cy="18262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0"/>
            <a:endCxn id="104" idx="2"/>
          </p:cNvCxnSpPr>
          <p:nvPr/>
        </p:nvCxnSpPr>
        <p:spPr>
          <a:xfrm flipV="1" rot="16200000">
            <a:off x="4161240" y="3022560"/>
            <a:ext cx="434160" cy="772560"/>
          </a:xfrm>
          <a:prstGeom prst="bentConnector3">
            <a:avLst>
              <a:gd name="adj1" fmla="val 47551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892600" y="3645000"/>
            <a:ext cx="3743280" cy="1525320"/>
          </a:xfrm>
          <a:prstGeom prst="roundRect">
            <a:avLst>
              <a:gd name="adj" fmla="val 16667"/>
            </a:avLst>
          </a:prstGeom>
          <a:solidFill>
            <a:srgbClr val="cecece">
              <a:alpha val="50000"/>
            </a:srgbClr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unity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13" idx="3"/>
            <a:endCxn id="114" idx="1"/>
          </p:cNvCxnSpPr>
          <p:nvPr/>
        </p:nvCxnSpPr>
        <p:spPr>
          <a:xfrm>
            <a:off x="4844880" y="4611240"/>
            <a:ext cx="354960" cy="180360"/>
          </a:xfrm>
          <a:prstGeom prst="bentConnector3">
            <a:avLst>
              <a:gd name="adj1" fmla="val 4994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5199120" y="4594320"/>
            <a:ext cx="1219320" cy="390600"/>
          </a:xfrm>
          <a:prstGeom prst="roundRect">
            <a:avLst>
              <a:gd name="adj" fmla="val 16667"/>
            </a:avLst>
          </a:prstGeom>
          <a:solidFill>
            <a:srgbClr val="6600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omme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6600" y="4425840"/>
            <a:ext cx="489240" cy="235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1080" y="4197240"/>
            <a:ext cx="1423800" cy="827280"/>
          </a:xfrm>
          <a:prstGeom prst="roundRect">
            <a:avLst>
              <a:gd name="adj" fmla="val 16667"/>
            </a:avLst>
          </a:prstGeom>
          <a:solidFill>
            <a:srgbClr val="6600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valuate Proposed Standard Implementations and Community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16400" y="4051440"/>
            <a:ext cx="447840" cy="214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90960" y="4051440"/>
            <a:ext cx="1136520" cy="392040"/>
          </a:xfrm>
          <a:prstGeom prst="roundRect">
            <a:avLst>
              <a:gd name="adj" fmla="val 16667"/>
            </a:avLst>
          </a:prstGeom>
          <a:solidFill>
            <a:srgbClr val="6600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valuate Proposed Stand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30640" y="3894120"/>
            <a:ext cx="1085760" cy="219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2600" y="1363680"/>
            <a:ext cx="3743280" cy="1055520"/>
          </a:xfrm>
          <a:prstGeom prst="roundRect">
            <a:avLst>
              <a:gd name="adj" fmla="val 16667"/>
            </a:avLst>
          </a:prstGeom>
          <a:solidFill>
            <a:srgbClr val="cecece">
              <a:alpha val="50000"/>
            </a:srgbClr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itial Scre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itial review of the RF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 RFC submission sup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m TWG; se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9800" y="6058440"/>
            <a:ext cx="1236600" cy="415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commended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3800" y="1620000"/>
            <a:ext cx="1236600" cy="2088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3560" y="3029040"/>
            <a:ext cx="21988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view 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erational Read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itability for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2811600"/>
            <a:ext cx="585720" cy="2808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4160" y="1117440"/>
            <a:ext cx="679680" cy="327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9" idx="2"/>
            <a:endCxn id="109" idx="1"/>
          </p:cNvCxnSpPr>
          <p:nvPr/>
        </p:nvCxnSpPr>
        <p:spPr>
          <a:xfrm flipH="1" rot="16200000">
            <a:off x="1987200" y="3522960"/>
            <a:ext cx="491400" cy="1280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898880" y="2777040"/>
            <a:ext cx="1236960" cy="415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3" idx="2"/>
            <a:endCxn id="109" idx="0"/>
          </p:cNvCxnSpPr>
          <p:nvPr/>
        </p:nvCxnSpPr>
        <p:spPr>
          <a:xfrm rot="5400000">
            <a:off x="4923720" y="3032280"/>
            <a:ext cx="434160" cy="754560"/>
          </a:xfrm>
          <a:prstGeom prst="bentConnector3">
            <a:avLst>
              <a:gd name="adj1" fmla="val 51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589800" y="5536080"/>
            <a:ext cx="1236600" cy="415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09" idx="2"/>
            <a:endCxn id="125" idx="1"/>
          </p:cNvCxnSpPr>
          <p:nvPr/>
        </p:nvCxnSpPr>
        <p:spPr>
          <a:xfrm flipH="1" rot="16200000">
            <a:off x="5398920" y="4553280"/>
            <a:ext cx="554760" cy="182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645240" y="2764800"/>
            <a:ext cx="1236600" cy="208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66040" y="5166720"/>
            <a:ext cx="1236600" cy="208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7" idx="2"/>
            <a:endCxn id="127" idx="0"/>
          </p:cNvCxnSpPr>
          <p:nvPr/>
        </p:nvCxnSpPr>
        <p:spPr>
          <a:xfrm flipH="1" rot="16200000">
            <a:off x="5850000" y="1350000"/>
            <a:ext cx="329040" cy="2499480"/>
          </a:xfrm>
          <a:prstGeom prst="bentConnector3">
            <a:avLst>
              <a:gd name="adj1" fmla="val 475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09" idx="2"/>
            <a:endCxn id="128" idx="1"/>
          </p:cNvCxnSpPr>
          <p:nvPr/>
        </p:nvCxnSpPr>
        <p:spPr>
          <a:xfrm flipH="1" rot="16200000">
            <a:off x="5622120" y="4330440"/>
            <a:ext cx="84960" cy="180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07" idx="2"/>
            <a:endCxn id="104" idx="0"/>
          </p:cNvCxnSpPr>
          <p:nvPr/>
        </p:nvCxnSpPr>
        <p:spPr>
          <a:xfrm rot="5400000">
            <a:off x="4212720" y="2212920"/>
            <a:ext cx="330840" cy="775440"/>
          </a:xfrm>
          <a:prstGeom prst="bentConnector3">
            <a:avLst>
              <a:gd name="adj1" fmla="val 474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07" idx="2"/>
            <a:endCxn id="123" idx="0"/>
          </p:cNvCxnSpPr>
          <p:nvPr/>
        </p:nvCxnSpPr>
        <p:spPr>
          <a:xfrm flipH="1" rot="16200000">
            <a:off x="4975920" y="2224440"/>
            <a:ext cx="330840" cy="751680"/>
          </a:xfrm>
          <a:prstGeom prst="bentConnector3">
            <a:avLst>
              <a:gd name="adj1" fmla="val 474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The RFC review process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Case History:  Data Access Protocol (DAP)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 of OPeNDAP’s DAP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grown” standard, not adopted by any de rigueur standards organization, new implementations from scratch are exp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un - Standards Process worked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 community - many supportive reviews for technical specification and operational experi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s were painless for the SPG to 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DAP community very cohesive and eng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ng leadership from both the OPeNDAP Group and key community us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successful in “getting out the vot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responsive in correcting “errors” in the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: Recommended Endorsement of D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Case History:  OGC Web Map Server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 of proposed stand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ready approved by OGC &amp; ISO as standard, new implementations from scratch are exp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get many technical spec reviews;  reviewers wondered why we are asking for a spec review when it was already an international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spec review important for a spec that has been exhaustively vetted by the OGC and IS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s of operational experience also diffic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experience” means something very specific in the NASA worl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viewers mentioned that they were serving hundreds of users each day with thousands of accesses to images – but didn’t consider themselves operational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learly, WMS could be used in operational environment based on actual number of users, data volumes, and hours of daily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:  Recommended endorsement of W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19:24:33Z</dcterms:created>
  <dc:creator>conovht</dc:creator>
  <dc:description/>
  <dc:language>en-US</dc:language>
  <cp:lastModifiedBy>Richard Ullman</cp:lastModifiedBy>
  <dcterms:modified xsi:type="dcterms:W3CDTF">2007-07-17T13:41:36Z</dcterms:modified>
  <cp:revision>72</cp:revision>
  <dc:subject/>
  <dc:title>RFCs for HDF5 and HDF-EOS5 Status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1497076</vt:r8>
  </property>
  <property fmtid="{D5CDD505-2E9C-101B-9397-08002B2CF9AE}" pid="3" name="_AuthorEmail">
    <vt:lpwstr>yonsook@mindspring.com</vt:lpwstr>
  </property>
  <property fmtid="{D5CDD505-2E9C-101B-9397-08002B2CF9AE}" pid="4" name="_AuthorEmailDisplayName">
    <vt:lpwstr>Yonsook Enloe</vt:lpwstr>
  </property>
  <property fmtid="{D5CDD505-2E9C-101B-9397-08002B2CF9AE}" pid="5" name="_EmailSubject">
    <vt:lpwstr>1st draft EGU slides</vt:lpwstr>
  </property>
</Properties>
</file>